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237-7084-456A-8E95-BF09A9FC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F63-9071-439C-B626-794DEA54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2E1-670C-4385-BFF4-482672EE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F10-1E30-4482-990D-CC6B034F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ED59-7D79-4165-B163-50CE3767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C809-73F9-42D7-93E7-E442294A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1BE7-F324-4ECA-A919-29AAA2AF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A189-07E8-499E-9D06-252CC33B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2298-4AA5-473B-8648-B0FC80BE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E187-01A4-460F-B694-E2E393FA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1195-DA8B-4FE4-AC62-896659BE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11E-F82D-418E-8EAA-D66F5DB3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4B63-36BE-41EE-84D0-9326928B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D32B-BF81-4679-B12A-DAF088A4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ADFF-7A3C-45C4-A2ED-D33610A8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A5DB-9DEE-4E11-9F56-B1BD111F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A011-9CF5-4929-92F2-38AD03BA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04B-720A-49A6-B561-FAF6795A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566-7625-4057-A3B7-A6B5F263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677-7ED0-43EF-9C77-1A6512A6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769-96B0-4EDD-AE7E-69B02A97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4AF-F6B5-4827-9355-A635B187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1FB-CC7E-4D1E-9969-4D91AB9B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E23D-7A04-422D-87C7-E354BB5F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E79E-A408-47B3-A9F3-7C73650AEE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7B5E-AEA5-42C5-B50B-16D55E3082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ycchancarey.com/equiano/biog.ht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Olaudah Equiano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706920" y="3886200"/>
            <a:ext cx="1728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ghtning 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n to a chief in the Kingdom of Benin, Guinea in 174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ducted along with his sister at the age of 1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nessed brutality and inhumanity of slave trade from West Africa to West Ind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 bought in Virginia by an officer in the Royal Navy, Michael Pascal, in 1754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n the name Gustavus Vass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ved and traveled abroad and aboard ships, venturing to the West Indies, Canada, England, American colonies, and Nicaragua (no particular order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mmary Continu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ptized in Carolina, told he would not go to heaven otherwi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ed to read and wri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ught freedom in 176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veled to England, worked as a hairdresser and voyaged at se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ined with other abolitionists (Granville Sharp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ote autobiography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e Interesting Narrative of the Life of Olaudah Equiano, Or Gustavus Vassa, The African. Written by Himsel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came a best seller and first of its kind, a narrative written by a sla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glish slave trade abolished 10 years la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 it applies to the Constit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iano’s narrative was well known as best seller, being made into 9 edi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raised awareness of the brutalities that occurred in the slave tra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resentation from southern states was given a boost in the “Great Compromise” counting each slave as 3/5 of a ma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boost in representation delayed the prohibition of the slave trade and allowed slave owners to reclaim escaped slav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state was allowed to decide on slavery for themselves, Vermont being the first to abolish slave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quiano Naysay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rthpla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written reference of Equiano, only Gustavus Vas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line/age in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Book sales$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ot so fast my friend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accounts are supported by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specific detail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able ages and dates not unheard o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st case scenario: First-hand accounts from others Equiano encounte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vid stories hard to disprov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oks for conside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4038480" cy="3640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ources Aplenty!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BS: This Far By Fa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bs.org/thisfarbyfaith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bs.org/thisfarbyfaith/people/olaudah_equiano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bs.org/thisfarbyfaith/timeline/p_1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BS: Africans in Ame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bs.org/wgbh/aia/home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bs.org/wgbh/aia/part1/1p276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rycchan Car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brycchancarey.com/equiano/biog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ull 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Version Volume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docsouth.unc.edu/neh/equiano1/menu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Version Volume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docsouth.unc.edu/neh/equiano2/menu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nover Historical Texts Project (Whole Tex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history.hanover.edu/texts/equiano/equiano_contents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hington State University (Overview and Excerp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wsu.edu:8080/~wldciv/world_civ_reader/world_civ_reader_2/equiano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brycchancarey.com/equiano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3:33:35Z</dcterms:created>
  <dc:creator>DeVeaux</dc:creator>
  <dc:description/>
  <dc:language>en-US</dc:language>
  <cp:lastModifiedBy>Lakeview School District</cp:lastModifiedBy>
  <dcterms:modified xsi:type="dcterms:W3CDTF">2009-01-28T13:37:01Z</dcterms:modified>
  <cp:revision>5</cp:revision>
  <dc:subject/>
  <dc:title>Olaudah Equiano </dc:title>
</cp:coreProperties>
</file>